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8A91-9EFD-43CC-87D0-D023123C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253-E44C-4824-B327-35E63B98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56A2-38DC-47E1-B66C-2D5A94FB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DB5-1EEE-4586-B21B-471937BB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08C-52D4-4585-A765-051F4178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E36E-FE82-4DD9-980F-D1178A85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979-CA01-49E6-B988-103CBE58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228-0765-4D65-883D-B1FC2EC1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123-31E1-45BB-86CC-6ACE63AD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C04C-9DFC-45CA-9563-BD5B835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56E-3608-48DA-B5D5-6492DD42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FE1-2265-4FD1-A4F9-DD0CB6D7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24BC-D1C6-43BA-A63A-8FF7BBEDF2A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387bdx"/>
          <p:cNvPicPr/>
          <p:nvPr/>
        </p:nvPicPr>
        <p:blipFill>
          <a:blip r:embed="rId1"/>
          <a:stretch/>
        </p:blipFill>
        <p:spPr>
          <a:xfrm>
            <a:off x="0" y="0"/>
            <a:ext cx="9144000" cy="6180120"/>
          </a:xfrm>
          <a:prstGeom prst="rect">
            <a:avLst/>
          </a:prstGeom>
          <a:ln w="0">
            <a:noFill/>
          </a:ln>
        </p:spPr>
      </p:pic>
      <p:sp>
        <p:nvSpPr>
          <p:cNvPr id="42" name="CaixaDeTexto 2"/>
          <p:cNvSpPr/>
          <p:nvPr/>
        </p:nvSpPr>
        <p:spPr>
          <a:xfrm>
            <a:off x="0" y="0"/>
            <a:ext cx="39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b0f0"/>
                </a:solidFill>
                <a:latin typeface="Calibri"/>
              </a:rPr>
              <a:t>Constituição pluriglandular,  O.P.I. IV,  rompimento do colom  na idade de 28 anos indica um acidente automobilistico que esse cliente sofreu, a área nasal nos indica uma área infecciosa da região dos sinus, amigdalas e caries dentarias em repetição. A O.P.I. IV por si só já nos indica uma pessoa com tendencias inflamatórias constantes, acompanhado pelo problema do acidente faz-se necessário uma dieta rica em magnésio (DOLOMITI), fibras e sucos verdes. Utilize como tratamento floral O.P.I. IV e  Oxigen-plus para a recuperaçã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b0f0"/>
                </a:solidFill>
                <a:latin typeface="Calibri"/>
              </a:rPr>
              <a:t>Coloração da Banda do Sistema Nercoso Autonomo avermelhada e palha. O próximo slide explica o motivo da procura por um microseometista oftalmico e o tratamento apl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ector de seta reta 4"/>
          <p:cNvCxnSpPr/>
          <p:nvPr/>
        </p:nvCxnSpPr>
        <p:spPr>
          <a:xfrm flipH="1" flipV="1">
            <a:off x="3857400" y="4857120"/>
            <a:ext cx="1000800" cy="143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CaixaDeTexto 5"/>
          <p:cNvSpPr/>
          <p:nvPr/>
        </p:nvSpPr>
        <p:spPr>
          <a:xfrm>
            <a:off x="4429080" y="43578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00"/>
                </a:solidFill>
                <a:latin typeface="Calibri"/>
              </a:rPr>
              <a:t>Rompimento do colon ascen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tângulo de cantos arredondados 6"/>
          <p:cNvSpPr/>
          <p:nvPr/>
        </p:nvSpPr>
        <p:spPr>
          <a:xfrm>
            <a:off x="6012000" y="1052640"/>
            <a:ext cx="1285560" cy="2928960"/>
          </a:xfrm>
          <a:custGeom>
            <a:avLst/>
            <a:gdLst>
              <a:gd name="textAreaLeft" fmla="*/ 62640 w 1285560"/>
              <a:gd name="textAreaRight" fmla="*/ 1222920 w 1285560"/>
              <a:gd name="textAreaTop" fmla="*/ 62640 h 2928960"/>
              <a:gd name="textAreaBottom" fmla="*/ 2866320 h 2928960"/>
            </a:gdLst>
            <a:ahLst/>
            <a:rect l="textAreaLeft" t="textAreaTop" r="textAreaRight" b="textAreaBottom"/>
            <a:pathLst>
              <a:path w="21600" h="49205">
                <a:moveTo>
                  <a:pt x="3600" y="0"/>
                </a:moveTo>
                <a:arcTo wR="3600" hR="3600" stAng="16200000" swAng="-5400000"/>
                <a:lnTo>
                  <a:pt x="0" y="45605"/>
                </a:lnTo>
                <a:arcTo wR="3600" hR="3600" stAng="10800000" swAng="-5400000"/>
                <a:lnTo>
                  <a:pt x="18000" y="49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ixaDeTexto 9"/>
          <p:cNvSpPr/>
          <p:nvPr/>
        </p:nvSpPr>
        <p:spPr>
          <a:xfrm>
            <a:off x="6357960" y="651996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 u="sng">
                <a:solidFill>
                  <a:srgbClr val="000000"/>
                </a:solidFill>
                <a:uFillTx/>
                <a:latin typeface="Calibri"/>
              </a:rPr>
              <a:t>TERAPIA FLOR DE Í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ixaDeTexto 8"/>
          <p:cNvSpPr/>
          <p:nvPr/>
        </p:nvSpPr>
        <p:spPr>
          <a:xfrm>
            <a:off x="0" y="648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r. Clodoaldo Pach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ixaDeTexto 8"/>
          <p:cNvSpPr/>
          <p:nvPr/>
        </p:nvSpPr>
        <p:spPr>
          <a:xfrm>
            <a:off x="65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Idade atual 44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Conector de seta reta 10"/>
          <p:cNvCxnSpPr/>
          <p:nvPr/>
        </p:nvCxnSpPr>
        <p:spPr>
          <a:xfrm flipH="1" flipV="1">
            <a:off x="4716000" y="403920"/>
            <a:ext cx="1512000" cy="25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0" name="Conector de seta reta 12"/>
          <p:cNvCxnSpPr>
            <a:stCxn id="48" idx="1"/>
          </p:cNvCxnSpPr>
          <p:nvPr/>
        </p:nvCxnSpPr>
        <p:spPr>
          <a:xfrm flipH="1">
            <a:off x="6300360" y="2676240"/>
            <a:ext cx="288000" cy="104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1" name="CaixaDeTexto 13"/>
          <p:cNvSpPr/>
          <p:nvPr/>
        </p:nvSpPr>
        <p:spPr>
          <a:xfrm>
            <a:off x="6300720" y="0"/>
            <a:ext cx="28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Calibri"/>
              </a:rPr>
              <a:t>Momento da concepção e nascimento, introflexão profunda de uma lacuna às 12:00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3"/>
          <p:cNvSpPr/>
          <p:nvPr/>
        </p:nvSpPr>
        <p:spPr>
          <a:xfrm>
            <a:off x="4284720" y="1125360"/>
            <a:ext cx="19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Arial"/>
              </a:rPr>
              <a:t>O.P.I. IV, medição abaixo de 75 moc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ector de seta reta 15"/>
          <p:cNvCxnSpPr/>
          <p:nvPr/>
        </p:nvCxnSpPr>
        <p:spPr>
          <a:xfrm flipH="1">
            <a:off x="5363280" y="1412640"/>
            <a:ext cx="288360" cy="4323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aixaDeTexto 1"/>
          <p:cNvSpPr/>
          <p:nvPr/>
        </p:nvSpPr>
        <p:spPr>
          <a:xfrm>
            <a:off x="0" y="0"/>
            <a:ext cx="9144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Cliente João Sil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Reclamação Principal: Fobias, depressão com desejo de suicidio. Em relação a diabete, úlcera estomacal e intestino o cliente sente-se conformado e não acredita que exista solução. Mas, devido a familia que ensiste ele aceita o  atendimento para que seja possivel um convivio social (tipico de uma O.P.I. IV), os tratamentos convencionais apenas amenizam seus sintomas, porem a depressão e fobias, mesmo com o uso de psicotrópicos apenas o deixam fora da real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A íris nos  revela e nos mostra a causa dos desequilibri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A introflexão ás 12:00 hs nos indica a hipoatividade do hipotalamo, no próximo slide dou uma explicação sobre as funções e atividades do hipotala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As lacunas fisicamente nos indicam uma disfunção glandular. Sobre o sistema emocional, ao se posicionarem sobre a borda da coroa (SNA) provocandos introflexões nos indica sentimentos de ingenuidade, sentimento de culpa e incapacidade de acreditar em si mesmo para novos objetivos de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Tratam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1 Floral O.P.I. IV = 15 gotas de manha   e no fim da tarde com pouca á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1 Magnovital = 6 gotas 3 x ao dia com á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3 Oxigen Plus = 35 gotas em 1 litro de água no periodo da manha e repetir no periodo da tar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1 Floral Portal do Tempo = 11 gotas sub-lingual  ao acordar e novamente 1 hora antes de deit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Digitupuntura com gel portal do tempo sobre a D4 idade atual que fortalece o desejo de viver, sobre o timo este é o ponto da confiança e sobre a C1 (concepção e nascimento) para liberar o trauma do nascimento. Esses tres pontos devem ser aplicados juntos na primeira anal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Musica para o sétimo chacra pela manha. Cultivando a saúde do corpo e da mente a noite ao deitar de Louise Hay. Estes relaxamentos se encontram no sistema Iris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Esse tratamento deve ser feito durante 28 d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aixaDeTexto 4"/>
          <p:cNvSpPr/>
          <p:nvPr/>
        </p:nvSpPr>
        <p:spPr>
          <a:xfrm>
            <a:off x="0" y="648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r. Clodoaldo Pach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9"/>
          <p:cNvSpPr/>
          <p:nvPr/>
        </p:nvSpPr>
        <p:spPr>
          <a:xfrm>
            <a:off x="6357960" y="651996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 u="sng">
                <a:solidFill>
                  <a:srgbClr val="000000"/>
                </a:solidFill>
                <a:uFillTx/>
                <a:latin typeface="Calibri"/>
              </a:rPr>
              <a:t>TERAPIA FLOR DE Í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TERAPIA FLOR DE ÍR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O hipotálamo é a central para os sistemas de auto-ajuste do nosso organismo, trais com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Temperatura corpo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ome e apet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ertas respostas a d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quilíbrio da águ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Reflexo de sed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tividade sexual e ener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ecanismo do sono e ato de desper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mportamento emocional – medo, raiva, tristeza, praz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Transpira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Equilíbrio do açúcar no sang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mbiçã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Funções da glândula endócr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etabolismo de gordu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Reações do sistema imunológ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tividade do sistema nervoso autônomo ou visceral (A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Movimentos da peristal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aixaDeTexto 9"/>
          <p:cNvSpPr/>
          <p:nvPr/>
        </p:nvSpPr>
        <p:spPr>
          <a:xfrm>
            <a:off x="6357960" y="651996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 u="sng">
                <a:solidFill>
                  <a:srgbClr val="000000"/>
                </a:solidFill>
                <a:uFillTx/>
                <a:latin typeface="Calibri"/>
              </a:rPr>
              <a:t>TERAPIA FLOR DE Í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ixaDeTexto 4"/>
          <p:cNvSpPr/>
          <p:nvPr/>
        </p:nvSpPr>
        <p:spPr>
          <a:xfrm>
            <a:off x="0" y="648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r. Clodoaldo Pach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TERAPIA FLOR DE ÍR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EQUILIBRAR O HIPOTAL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O hipotalamo esta localizado as 12:00 hs em ambas as íris, no momento do nascimento, ao lado inferior temos a hepifi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Você não consegue equilibra-lo se não usar a digitupuntura sobre a 1ª cervical com o gel portal do tempo e o uso interno do magnovital e portal do tempo. A íris através do hipotalamo registra a energia dos nossos antepassados no momento da concepção. Pense e refli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aixaDeTexto 9"/>
          <p:cNvSpPr/>
          <p:nvPr/>
        </p:nvSpPr>
        <p:spPr>
          <a:xfrm>
            <a:off x="6357960" y="6519960"/>
            <a:ext cx="26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600" spc="-1" strike="noStrike" u="sng">
                <a:solidFill>
                  <a:srgbClr val="000000"/>
                </a:solidFill>
                <a:uFillTx/>
                <a:latin typeface="Calibri"/>
              </a:rPr>
              <a:t>TERAPIA FLOR DE Í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4"/>
          <p:cNvSpPr/>
          <p:nvPr/>
        </p:nvSpPr>
        <p:spPr>
          <a:xfrm>
            <a:off x="0" y="648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Dr. Clodoaldo Pach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12:54:25Z</dcterms:created>
  <dc:creator>clodoaldo</dc:creator>
  <dc:description/>
  <dc:language>en-US</dc:language>
  <cp:lastModifiedBy>clodoaldo</cp:lastModifiedBy>
  <dcterms:modified xsi:type="dcterms:W3CDTF">2011-01-05T00:33:56Z</dcterms:modified>
  <cp:revision>2</cp:revision>
  <dc:subject/>
  <dc:title>Slide 1</dc:title>
</cp:coreProperties>
</file>